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AE64-F913-4913-A43D-EDBF20B18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6D37-A45A-4524-821A-DBE23A435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8D57-3658-4311-B42A-353CEE9BA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6E0F-A1B7-49D9-A31A-C8627E9B4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4D93-F89A-4185-BAE8-37C3D5909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91B1-716B-4047-A9AB-1A5FD80E1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CA03-4E97-47AB-83CA-5473A71E9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FB41-B8E9-4761-97FF-A71BE4B47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F34E-81C7-4479-A428-EF6A3F4C2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F28B-089E-472F-AF05-9E73809B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E3A2-9FA8-4A6A-9EC8-C3B90422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7F4B-5439-485C-BF96-1C877D39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CF3F3-7410-49A9-AF8B-5EDF5D4B60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Gabriela</dc:creator>
  <dc:description/>
  <dc:language>en-US</dc:language>
  <cp:lastModifiedBy>Gabriela</cp:lastModifiedBy>
  <dcterms:modified xsi:type="dcterms:W3CDTF">2013-09-11T18:52:13Z</dcterms:modified>
  <cp:revision>2</cp:revision>
  <dc:subject/>
  <dc:title>PowerPoint Presentation</dc:title>
</cp:coreProperties>
</file>