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CC36-FCFD-4A10-81A6-9E424305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8D6-219B-4D12-96F8-0F9E5B1B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A701-7A9D-4450-8A5E-6726F048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C73-BFF9-4344-BD0B-E0D15BE6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622-66DC-420B-BA00-9E43DD55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24BD-4A3C-40E9-8AAB-578AD163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E32E-D4AE-4932-B2C9-958D5DA5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9E5D-904D-48D0-AE7A-E4EB32CD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95B-D9E2-41A3-821D-D6907301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779-FEDB-4368-86F9-49701442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DC0F-14F7-4EA3-832D-67668534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8111-C0A0-4258-A7A2-0FE869C5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B777-FA3C-45F2-90C6-7697CE993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18:45:49Z</dcterms:created>
  <dc:creator>user1</dc:creator>
  <dc:description/>
  <dc:language>en-US</dc:language>
  <cp:lastModifiedBy>user1</cp:lastModifiedBy>
  <dcterms:modified xsi:type="dcterms:W3CDTF">2013-09-11T18:47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