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1400" y="1165320"/>
            <a:ext cx="9061200" cy="4525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772400" y="0"/>
            <a:ext cx="1295280" cy="485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9088560" y="120600"/>
            <a:ext cx="55440" cy="55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8240760" y="6737400"/>
            <a:ext cx="903240" cy="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8.jpeg"/><Relationship Id="rId18" Type="http://schemas.openxmlformats.org/officeDocument/2006/relationships/image" Target="../media/image13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2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992320" y="3200400"/>
            <a:ext cx="615168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3970440"/>
            <a:ext cx="8001000" cy="258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06400" y="4460760"/>
            <a:ext cx="978120" cy="366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4464000"/>
            <a:ext cx="541008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At                     , we aim to prove our work ethic and provide the expertise in professional and qualitative results, imperative for developing long lasting business relationship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Once mandated to complete a project, our database design department works to help you improve your data flow with complete and secure databases, where superior performance and dedication are essential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06668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4400" y="437976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33"/>
                </a:solidFill>
                <a:latin typeface="Arial"/>
              </a:rPr>
              <a:t>Management Tea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62640" y="4724280"/>
            <a:ext cx="209232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oana Pestri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ogdan 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exandru Prisacar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exandru 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4400" y="5753160"/>
            <a:ext cx="198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33"/>
                </a:solidFill>
                <a:latin typeface="Arial"/>
              </a:rPr>
              <a:t>Project Manager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62640" y="605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ivia To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914400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43800" y="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76400" y="4022640"/>
            <a:ext cx="693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Listen to your ideas</a:t>
            </a: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, u</a:t>
            </a: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nderstand your needs</a:t>
            </a: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, e</a:t>
            </a: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xceed your expectations</a:t>
            </a: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6738840"/>
            <a:ext cx="838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1093680"/>
            <a:ext cx="769608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ERD was created referring only to the online busine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re are two types of </a:t>
            </a:r>
            <a:r>
              <a:rPr b="1" lang="ro-RO" sz="1600" spc="-1" strike="noStrike">
                <a:solidFill>
                  <a:srgbClr val="009933"/>
                </a:solidFill>
                <a:latin typeface="Arial"/>
                <a:ea typeface="Times New Roman"/>
              </a:rPr>
              <a:t>Client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: private individuals and legal ent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rivate individuals can create the account themselves by us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uto-register”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Legal entities accounts must be created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with the supervision of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mployee from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nnex Customer Service. An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ministrator mus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esignated for the account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He will be able to creat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ubord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ccounts for the company’s employe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subscriber is a person who uses a postpaid plan. The subscription i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monthly postpaid plan.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“address” attribute is optiona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; it i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needed only  when the client is an on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ore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ustom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 </a:t>
            </a:r>
            <a:r>
              <a:rPr b="1" lang="en-US" sz="1600" spc="-1" strike="noStrike">
                <a:solidFill>
                  <a:srgbClr val="009933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09933"/>
                </a:solidFill>
                <a:latin typeface="Arial"/>
                <a:ea typeface="Times New Roman"/>
              </a:rPr>
              <a:t>ccount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is accessed by using a unique user name and a password. T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re two types of accounts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ministrator and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ubordinate. The „private_ques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d „answer” attributes represent the hint question and its answer, in c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user has forgotten the passwor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0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5800" y="1066680"/>
            <a:ext cx="8062920" cy="55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nsumers and companies use </a:t>
            </a:r>
            <a:r>
              <a:rPr b="1" lang="en-US" sz="1600" spc="-1" strike="noStrike">
                <a:solidFill>
                  <a:srgbClr val="009933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09933"/>
                </a:solidFill>
                <a:latin typeface="Arial"/>
                <a:ea typeface="Times New Roman"/>
              </a:rPr>
              <a:t>dministrator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ccounts, where all the subscri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re listed in an organizational hierarchy (e.g. the phone number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f the employee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company, the phone numbers registered on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nsumer’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name).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009933"/>
                </a:solidFill>
                <a:latin typeface="Arial"/>
                <a:ea typeface="Times New Roman"/>
              </a:rPr>
              <a:t>Subordinate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ccounts are limite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nd available only for companies (employees)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re is only one subscription listed in this type of accoun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attribut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subscription_code” in the postpaid plan entity is a number assign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ach postpaid plan.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rough a certain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erv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(e.g. sms, calls, roaming calls, etc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), a subscriber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make transactions. If no transaction is performed on the ongoing month, the bill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nly contain the prices of the monthly services.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“duration” attribute reffers to either the volume of a message or the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f a cal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/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nternet ac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ansaction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yp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ntity refers to national/ international conversations, Conn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nversations, SMS, MM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, etc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n case the client is a company, all the postpaid plans will appear on the same bil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which will be sent to the account administrator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1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1049400"/>
            <a:ext cx="7772400" cy="54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“date_paid” attribute in the 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atu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entity is optional; it is available only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bill is pa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ubscriber must use a price plan.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price plan refers to either data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(ISP Postpaid and ISP Prepaid) or voice services (GSM Postpaid). A prepaid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an only use an ISP Prepaid serv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attribute „type” in the 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rice plan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entity may be GSM or ISP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“status_value” in the 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ervice Portfolio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entity may be active, inactiv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uspen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subscriber can mak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quests.  A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quest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may be computerized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verviewed by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mployee. If there is no need for an employee to manage it,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equest will b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utomatically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roces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attribute “comment” contains information about the service demanded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ubscriber in the requ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lients may get feedback from Connex Customer Service by filling up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Feedback For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 A feedback form is posted from an account. There are two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f feedback forms: GSM and ISP.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5800" y="1049400"/>
            <a:ext cx="792468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handset is a mobile phon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p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omotional articles can be clothing, we needed to model an optional “siz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ttribu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ach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cessory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is compatible for a “model_class” (e.g. Series 60). Ther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ifferent types of accessories: chargers, handsfree, audio, batteries, bluetooth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art_d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nd th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nd_d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price are NOT the same with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art_d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xpiration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_d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omotion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(e.g. the promotion “we work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anta!” offers 50%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iscount for an entire year for monthly plans; the promotion l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month, but th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new price for monthly plans lasts an entire ye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ro-RO" sz="16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http://www.connex.ro/en/personal/news-and-promotions/promotions/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he attribute “description” tells on what products, services or transaction type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price applies.  An example for a promotion applied to a transaction type is: 50 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minutes a month for 3G calling, up to 100 SMS and 15 MMS f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R</a:t>
            </a:r>
            <a:r>
              <a:rPr b="1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ceipt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is issued when a client uses the bill e-payment service or buy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omethin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from the online store. The “payment_type” may be card or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money order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3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8080" y="3352680"/>
            <a:ext cx="75438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6656400" cy="822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71600" y="1819440"/>
            <a:ext cx="73915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e assumed that only one employee manages a company over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35116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stra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263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um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8120" y="2808360"/>
            <a:ext cx="716292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f the client is a company the sam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subscription_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d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is assigned to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mployee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f that company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star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ate must be before the en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ate on the service portfoli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romotion and price ent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t least one price plan must have "active" status, but not more than on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ach type (GSM or ISP) of 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nformation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recorded in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ate_pai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nd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ue_d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attributes m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be after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 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ate_issue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ate_issue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must be the same or after th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“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bill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g_dat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”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bi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billing period starts 30 days earlier than the “billing_da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4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8240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76360" y="3914640"/>
            <a:ext cx="0" cy="600120"/>
          </a:xfrm>
          <a:prstGeom prst="line">
            <a:avLst/>
          </a:prstGeom>
          <a:ln w="12600">
            <a:solidFill>
              <a:srgbClr val="00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1166760"/>
            <a:ext cx="51814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his example illustrates how, by querying 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atabase, myAccount application generates re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for Connex customers. After mapping our ERD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created the following tables that contain real d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2527200" cy="2162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64000" y="2684520"/>
            <a:ext cx="3672000" cy="1824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572000" y="4622760"/>
            <a:ext cx="4464000" cy="1932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7520" y="882720"/>
            <a:ext cx="3516480" cy="3111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3394080" y="2852640"/>
            <a:ext cx="1008000" cy="912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38520" y="3213000"/>
            <a:ext cx="690480" cy="0"/>
          </a:xfrm>
          <a:prstGeom prst="line">
            <a:avLst/>
          </a:prstGeom>
          <a:ln w="12600">
            <a:solidFill>
              <a:srgbClr val="00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500720" y="4724280"/>
            <a:ext cx="712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0720" y="3357720"/>
            <a:ext cx="0" cy="1366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356000" y="3357720"/>
            <a:ext cx="1447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076720" y="2781360"/>
            <a:ext cx="2872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2781360"/>
            <a:ext cx="0" cy="431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356000" y="3213000"/>
            <a:ext cx="7207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5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824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6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1243080"/>
            <a:ext cx="30481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following ch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resent the 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rs and customers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nex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4800600" cy="26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reports are generated procedurally using 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tabase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se sample reports show the usag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st important activities in the first month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006 after the launch of the online stor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y analyzing these reports Connex will be 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develop its future marketing plan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pcoming y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352440" y="1095480"/>
            <a:ext cx="4971960" cy="2342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9"/>
          <a:stretch/>
        </p:blipFill>
        <p:spPr>
          <a:xfrm>
            <a:off x="5619600" y="3571920"/>
            <a:ext cx="2914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1400040"/>
            <a:ext cx="7391520" cy="47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flexible and secur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ystem has been created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llo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data flow to be eas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rol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Our solution allows activities lik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ccessing your bill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nd bill e-payment to 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sily manag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tracking syste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we created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s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ble to keep historical data (e.g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p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plans, tariffs,  data service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etc)  in stor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Our system meets the need of a human operator in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helping to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crea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dministra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ccounts, managing requests and feedback for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online business has been expanded by adding an online store.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e kept for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orders, deliveries and receipts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We managed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create a strong designed ERD, which meets all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usiness need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is able to support future develop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nex   can now generate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report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client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ccount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bill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actions, orders and deliverie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y tracking services, subscriber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ccou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204920" y="5400720"/>
            <a:ext cx="838080" cy="249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523360" y="6539040"/>
            <a:ext cx="609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17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828800"/>
            <a:ext cx="76201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Connex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leader of mobile telecommunication market in Romania, is the registered trademark of MobiFon S.A., the company that launched the first GSM network in Roma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Connex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is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urrently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a subsidiary of Vodafone Group. Providing a full range of mobile telecommunications services, including voice and data communications, Vodafone currently serves more than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60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million proportionate customers worldw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7eba00"/>
                </a:solidFill>
                <a:latin typeface="Arial"/>
              </a:rPr>
              <a:t>myAccount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is a useful tool for the Connex customers, allowing, besides various functionalities for self-management, the electronic online display of the Connex</a:t>
            </a:r>
            <a:r>
              <a:rPr b="0" lang="ro-RO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bill and of the GSM calls for the ongoing month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the previous 3 months.</a:t>
            </a:r>
            <a:r>
              <a:rPr b="1" lang="ro-RO" sz="1600" spc="-1" strike="noStrike">
                <a:solidFill>
                  <a:srgbClr val="0099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act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00480" y="518148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Phone</a:t>
            </a:r>
            <a:r>
              <a:rPr b="0" lang="ro-RO" sz="15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1500"/>
            </a:br>
            <a:r>
              <a:rPr b="0" lang="ro-RO" sz="1500" spc="-1" strike="noStrike">
                <a:solidFill>
                  <a:srgbClr val="000066"/>
                </a:solidFill>
                <a:latin typeface="Arial"/>
              </a:rPr>
              <a:t>+40 21 302</a:t>
            </a: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 10 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51912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Email</a:t>
            </a: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: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contact@connex.r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722680"/>
            <a:ext cx="838080" cy="249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62120" y="1873080"/>
            <a:ext cx="838080" cy="249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5181480"/>
            <a:ext cx="3429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000066"/>
                </a:solidFill>
                <a:latin typeface="Arial"/>
              </a:rPr>
              <a:t>Connex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15</a:t>
            </a:r>
            <a:r>
              <a:rPr b="0" lang="ro-RO" sz="1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Charles de Gaulle Square</a:t>
            </a:r>
            <a:r>
              <a:rPr b="0" lang="ro-RO" sz="1500" spc="-1" strike="noStrike">
                <a:solidFill>
                  <a:srgbClr val="000066"/>
                </a:solidFill>
                <a:latin typeface="Arial"/>
              </a:rPr>
              <a:t>, sector</a:t>
            </a:r>
            <a:r>
              <a:rPr b="0" lang="en-US" sz="1500" spc="-1" strike="noStrike">
                <a:solidFill>
                  <a:srgbClr val="000066"/>
                </a:solidFill>
                <a:latin typeface="Arial"/>
              </a:rPr>
              <a:t> 1</a:t>
            </a:r>
            <a:br>
              <a:rPr sz="1500"/>
            </a:br>
            <a:r>
              <a:rPr b="0" lang="ro-RO" sz="1500" spc="-1" strike="noStrike">
                <a:solidFill>
                  <a:srgbClr val="000066"/>
                </a:solidFill>
                <a:latin typeface="Arial"/>
              </a:rPr>
              <a:t>Bucharest, Romani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202280" y="2743200"/>
            <a:ext cx="990360" cy="220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762120" y="3219480"/>
            <a:ext cx="990360" cy="220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403960" cy="82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62120" y="914400"/>
            <a:ext cx="1523880" cy="674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2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066680"/>
            <a:ext cx="838188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nterviewee: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Mrs. Teodora Pohoata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roject Manager Self Suppor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-mail: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eodora.pohoata@vodafone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he first inter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ersonal experience gained from using </a:t>
            </a:r>
            <a:r>
              <a:rPr b="1" lang="en-US" sz="1600" spc="-1" strike="noStrike">
                <a:solidFill>
                  <a:srgbClr val="7eba00"/>
                </a:solidFill>
                <a:latin typeface="Arial"/>
                <a:ea typeface="Times New Roman"/>
              </a:rPr>
              <a:t>myAccount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(https://myaccount.connex.r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nformation received from Connex Custome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nnex   website: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www.connex.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Business magazines: Biz, Capital, Ziarul Financiar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209680"/>
            <a:ext cx="609588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ffered an overview of what self-care and self-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an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reated a detailed view about different types of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leared how the business is computerized and where a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operator 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onfirmed the obvious need for an onlin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4216320"/>
            <a:ext cx="6095880" cy="11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insight from the</a:t>
            </a:r>
            <a:r>
              <a:rPr b="0" lang="en-US" sz="1600" spc="-1" strike="noStrike">
                <a:solidFill>
                  <a:srgbClr val="0099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client’s point of view regarding the on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elementary information about the online application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data flow inside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1066680" y="5661000"/>
            <a:ext cx="838440" cy="249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3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23720" y="941400"/>
            <a:ext cx="856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Activity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ystem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p through i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s clear and intuitive layout helped us exa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usiness and build our strategy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therefore there was no need to model a preliminary E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03960" cy="82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47920" y="1486080"/>
            <a:ext cx="6095880" cy="529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4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1219320"/>
            <a:ext cx="7010280" cy="54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Stable database able to support continuous activity, constan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and large data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Track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enerate comprehensive reports 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formation output from the bill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99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future need for an onlin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99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signing a database able to support future development of the on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lling the demand of administrating various types of accounts in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an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ing the price plan and extras package to suit the client’s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057400"/>
            <a:ext cx="464796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ariffs and price plan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actions and b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ssible additional and ISP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235320"/>
            <a:ext cx="403848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illed/unbilled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illed/unbilled internet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tails for current roaming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5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324480" y="1452600"/>
            <a:ext cx="25909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inimal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f the business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itial desig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carc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rms basis for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asic,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formation modeled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result of the 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t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termediary s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velopment base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rst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mportant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utl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6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6320" y="874800"/>
            <a:ext cx="632448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74720" y="1066680"/>
            <a:ext cx="8153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Second Intervie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ollected information about the bill e-pay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thered further information about a future online s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ocumented all the assumptions made for the preliminary ER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581200"/>
            <a:ext cx="6248520" cy="14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obvious need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an onlin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benefits of an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line store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for the online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diferent types of products on sale: mobile phones, 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packs, accesories, promotional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special offers only available in the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line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521240"/>
            <a:ext cx="60958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difference between private individual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ccounts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and lega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entitie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difference between voice and data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promotions and discounts available for price plans and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7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3000" y="6294600"/>
            <a:ext cx="2441520" cy="52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3920" y="90360"/>
            <a:ext cx="8386560" cy="6705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8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6960" y="5424480"/>
            <a:ext cx="1371600" cy="105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59720" y="3962520"/>
            <a:ext cx="121932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062240" y="2876400"/>
            <a:ext cx="1729080" cy="771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838080"/>
            <a:ext cx="6324480" cy="54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091040" y="1704960"/>
            <a:ext cx="1684440" cy="107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819680" cy="814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57200" y="1447920"/>
            <a:ext cx="2860560" cy="3817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809880" y="3733920"/>
            <a:ext cx="3353040" cy="28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3428640" y="1927080"/>
            <a:ext cx="731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1935000"/>
            <a:ext cx="0" cy="49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6280" y="1644480"/>
            <a:ext cx="533520" cy="6400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800" y="2438280"/>
            <a:ext cx="2743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85800" y="2285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6280" y="2505240"/>
            <a:ext cx="1219320" cy="152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00280" y="2525760"/>
            <a:ext cx="2514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17720" y="2679840"/>
            <a:ext cx="557280" cy="243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76400" y="2685960"/>
            <a:ext cx="380880" cy="24400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4960" y="3274920"/>
            <a:ext cx="639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610000" y="2628720"/>
            <a:ext cx="0" cy="45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590920"/>
            <a:ext cx="1295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590920"/>
            <a:ext cx="0" cy="676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124600"/>
            <a:ext cx="0" cy="209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334120"/>
            <a:ext cx="2209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33680" y="3465360"/>
            <a:ext cx="0" cy="1865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38360" y="3467160"/>
            <a:ext cx="712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6145200"/>
            <a:ext cx="887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6143760"/>
            <a:ext cx="0" cy="585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6729480"/>
            <a:ext cx="2668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105520" y="6590880"/>
            <a:ext cx="0" cy="136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6270480"/>
            <a:ext cx="731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6275520"/>
            <a:ext cx="0" cy="493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6781680"/>
            <a:ext cx="3738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943600" y="6586560"/>
            <a:ext cx="0" cy="192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14520" y="6122880"/>
            <a:ext cx="4608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60520" y="6245280"/>
            <a:ext cx="4608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56320" y="4280040"/>
            <a:ext cx="858600" cy="2303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13480" y="4280040"/>
            <a:ext cx="666720" cy="2303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7640" y="1905120"/>
            <a:ext cx="4608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83200" y="2500200"/>
            <a:ext cx="4608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41800"/>
            <a:ext cx="4608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32200" y="4278240"/>
            <a:ext cx="924120" cy="2303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76800" y="6586200"/>
            <a:ext cx="0" cy="8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02080" y="6672240"/>
            <a:ext cx="1672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02080" y="6013440"/>
            <a:ext cx="0" cy="658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6019920"/>
            <a:ext cx="1078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92200" y="5986440"/>
            <a:ext cx="4608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757520"/>
            <a:ext cx="25146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0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The following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illustrates 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our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ER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my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ccount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66"/>
                </a:solidFill>
                <a:latin typeface="Arial"/>
              </a:rPr>
              <a:t>interconnecte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3360" y="3451320"/>
            <a:ext cx="4572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76440" y="2681280"/>
            <a:ext cx="292320" cy="243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412800" y="3384720"/>
            <a:ext cx="7318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10000" y="2624040"/>
            <a:ext cx="8046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9920" y="2633760"/>
            <a:ext cx="0" cy="739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3360" y="3360600"/>
            <a:ext cx="4572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209680" y="2590560"/>
            <a:ext cx="0" cy="8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76960" y="4276800"/>
            <a:ext cx="466920" cy="2303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543720" y="6589440"/>
            <a:ext cx="0" cy="191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46960" y="6777000"/>
            <a:ext cx="822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372440" y="4494240"/>
            <a:ext cx="350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24880" y="4467240"/>
            <a:ext cx="46080" cy="46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372440" y="4494240"/>
            <a:ext cx="0" cy="2286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10480" y="6539040"/>
            <a:ext cx="60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irstrip Four"/>
              </a:rPr>
              <a:t>9/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1:13:08Z</dcterms:created>
  <dc:creator>AlexPrisa</dc:creator>
  <dc:description/>
  <dc:language>en-US</dc:language>
  <cp:lastModifiedBy>CAnnabYS</cp:lastModifiedBy>
  <dcterms:modified xsi:type="dcterms:W3CDTF">2005-12-28T21:17:03Z</dcterms:modified>
  <cp:revision>35</cp:revision>
  <dc:subject/>
  <dc:title>PowerPoint Presentation</dc:title>
</cp:coreProperties>
</file>