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A71-579F-4E8E-AFC7-93C3DD80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67D-863F-4B58-AE19-9CBA953C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BE56-1396-47DD-A77D-A6E80F4E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CA2-6074-4E07-9A55-F10A6C8E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41F-8472-454F-ACC3-315EA670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90B-200C-48D2-9DC2-8DE8A2F1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42C-84B8-4BBA-9FAA-D8E3E06F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E84-2D63-437E-B3E8-6A034248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396-5AC2-488F-8348-DB38823C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607-4CAC-45EB-9543-A4C1FCC3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9E5-33F3-47EF-AD4B-8EE26F2B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34D-5810-40BD-984D-F7EEB62A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0304-7985-46BC-BE8F-BEEDE7065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1430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We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ban Va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rc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Alexand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ban Ana-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siliu Cristi Da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Project manag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anuela Cerc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ail:emanuela.cerchez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343400" y="2743200"/>
          <a:ext cx="4508640" cy="12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743200"/>
                    <a:ext cx="450864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dri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 li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29360" y="1574280"/>
            <a:ext cx="2752200" cy="3175560"/>
          </a:xfrm>
          <a:prstGeom prst="rect">
            <a:avLst/>
          </a:prstGeom>
          <a:solidFill>
            <a:srgbClr val="9ab0f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last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first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driver_li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500"/>
                            </p:stCondLst>
                            <p:childTnLst>
                              <p:par>
                                <p:cTn id="4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000"/>
                            </p:stCondLst>
                            <p:childTnLst>
                              <p:par>
                                <p:cTn id="4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8000"/>
                            </p:stCondLst>
                            <p:childTnLst>
                              <p:par>
                                <p:cTn id="4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sine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rul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mployees take care of proced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mployees need to know other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mployee may work in every activity of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a large experience in tourism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is tourism works in collaboration with other partners around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sine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ur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ose who command tickets by internet or by phone,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 will receive them home from the post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ents get free transport to the air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ents who rent a car can drive it maxim             400 k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both leisure and  business travel,  Travis can offer you good prices for accommodation in  hotels and pensions in any city of Romania,  mountain or Black Sea res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500"/>
                            </p:stCondLst>
                            <p:childTnLst>
                              <p:par>
                                <p:cTn id="5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0"/>
                            </p:stCondLst>
                            <p:childTnLst>
                              <p:par>
                                <p:cTn id="5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sine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ick-up place isn’t Iassy you must make the reservation at least one day before the pick-up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nting a car if you change your mind about the period of time you must pay a tax if you want to take it back sooner, or to 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t it other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pass the rented period you are going to be penal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sine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mmer the holidays are set in places as: Italy, Egypt, Bulgaria, Spain, Gree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inter clients go skying in Denmark also they spend the holidays ( Christmas, New Year) in France (Paris), Italy, S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natural catastrofes (calamities)/ bad weather the departure is anulated/canceled case in which people will get all their money back or the departure date is chan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rent-a-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 must be rented for a fixed period of 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osen by the cli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s are FULL-CASCO insured so if a damage occurs the Insu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Company will pay for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on-line reservation (airplane tick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ation date for a plane ticket must be done minimum 10 days and maximum 1 month before the departure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t allowed reservation for babies       (0-2 years) or children (2-12 years) with out an ad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ure date must be earlier than the arrival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rent-a-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-up date must be earlier then the drop-off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6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1066680"/>
          <a:ext cx="9144000" cy="533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Travis Tourism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in Iassy for business, we can provide you special packages includ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s or car r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au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rence/congress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tour so that your travel to be both useful and plea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486400" y="2743200"/>
          <a:ext cx="2819520" cy="151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2743200"/>
                    <a:ext cx="28195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person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rian Gradina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e number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07455953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ffice@travis.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4120" y="3886200"/>
          <a:ext cx="3149640" cy="17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886200"/>
                    <a:ext cx="314964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ement of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is tourism need an information system to help them keep track of their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tement of the proposed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opose an information system relied on a database to store data, with an friendly user interface which will help your employees to get in no time the reports and the statistics they nee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employ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76600" y="1594440"/>
            <a:ext cx="2610720" cy="3669120"/>
          </a:xfrm>
          <a:prstGeom prst="rect">
            <a:avLst/>
          </a:prstGeom>
          <a:solidFill>
            <a:srgbClr val="9ab0f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last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first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phone_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500"/>
                            </p:stCondLst>
                            <p:childTnLst>
                              <p:par>
                                <p:cTn id="1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50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cli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76600" y="1639080"/>
            <a:ext cx="2610720" cy="2893320"/>
          </a:xfrm>
          <a:prstGeom prst="rect">
            <a:avLst/>
          </a:prstGeom>
          <a:solidFill>
            <a:srgbClr val="9ab0f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last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first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phone_n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500"/>
                            </p:stCondLst>
                            <p:childTnLst>
                              <p:par>
                                <p:cTn id="2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500"/>
                            </p:stCondLst>
                            <p:childTnLst>
                              <p:par>
                                <p:cTn id="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c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02800" y="1639080"/>
            <a:ext cx="2682000" cy="2893320"/>
          </a:xfrm>
          <a:prstGeom prst="rect">
            <a:avLst/>
          </a:prstGeom>
          <a:solidFill>
            <a:srgbClr val="9ab0f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nr_of_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rent hist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02800" y="1577520"/>
            <a:ext cx="2682000" cy="3245760"/>
          </a:xfrm>
          <a:prstGeom prst="rect">
            <a:avLst/>
          </a:prstGeom>
          <a:solidFill>
            <a:srgbClr val="9ab0f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pick_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drop_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nr_of_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nr_of_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5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8:19:19Z</dcterms:created>
  <dc:creator>Wa$iLe</dc:creator>
  <dc:description/>
  <dc:language>en-US</dc:language>
  <cp:lastModifiedBy>Wa$iLe</cp:lastModifiedBy>
  <dcterms:modified xsi:type="dcterms:W3CDTF">2007-12-10T20:02:11Z</dcterms:modified>
  <cp:revision>30</cp:revision>
  <dc:subject/>
  <dc:title>DataModeling</dc:title>
</cp:coreProperties>
</file>